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57400" y="0"/>
            <a:ext cx="295092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20880" y="746280"/>
            <a:ext cx="496872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443520"/>
            <a:ext cx="295128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57400" y="9443520"/>
            <a:ext cx="295092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7E70-D781-4138-9C52-6B0BF4539D2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20880" y="746280"/>
            <a:ext cx="4968720" cy="3727440"/>
          </a:xfrm>
          <a:prstGeom prst="rect">
            <a:avLst/>
          </a:prstGeom>
          <a:ln w="0">
            <a:noFill/>
          </a:ln>
        </p:spPr>
      </p:sp>
      <p:sp>
        <p:nvSpPr>
          <p:cNvPr id="113"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14"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20880" y="746280"/>
            <a:ext cx="4968720" cy="3727440"/>
          </a:xfrm>
          <a:prstGeom prst="rect">
            <a:avLst/>
          </a:prstGeom>
          <a:ln w="0">
            <a:noFill/>
          </a:ln>
        </p:spPr>
      </p:sp>
      <p:sp>
        <p:nvSpPr>
          <p:cNvPr id="140"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41"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20880" y="746280"/>
            <a:ext cx="4968720" cy="3727440"/>
          </a:xfrm>
          <a:prstGeom prst="rect">
            <a:avLst/>
          </a:prstGeom>
          <a:ln w="0">
            <a:noFill/>
          </a:ln>
        </p:spPr>
      </p:sp>
      <p:sp>
        <p:nvSpPr>
          <p:cNvPr id="116"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17"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20880" y="746280"/>
            <a:ext cx="4968720" cy="3727440"/>
          </a:xfrm>
          <a:prstGeom prst="rect">
            <a:avLst/>
          </a:prstGeom>
          <a:ln w="0">
            <a:noFill/>
          </a:ln>
        </p:spPr>
      </p:sp>
      <p:sp>
        <p:nvSpPr>
          <p:cNvPr id="119"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20"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20880" y="746280"/>
            <a:ext cx="4968720" cy="3727440"/>
          </a:xfrm>
          <a:prstGeom prst="rect">
            <a:avLst/>
          </a:prstGeom>
          <a:ln w="0">
            <a:noFill/>
          </a:ln>
        </p:spPr>
      </p:sp>
      <p:sp>
        <p:nvSpPr>
          <p:cNvPr id="122"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23"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8720" cy="3727440"/>
          </a:xfrm>
          <a:prstGeom prst="rect">
            <a:avLst/>
          </a:prstGeom>
          <a:ln w="0">
            <a:noFill/>
          </a:ln>
        </p:spPr>
      </p:sp>
      <p:sp>
        <p:nvSpPr>
          <p:cNvPr id="125"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26"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20880" y="746280"/>
            <a:ext cx="4968720" cy="3727440"/>
          </a:xfrm>
          <a:prstGeom prst="rect">
            <a:avLst/>
          </a:prstGeom>
          <a:ln w="0">
            <a:noFill/>
          </a:ln>
        </p:spPr>
      </p:sp>
      <p:sp>
        <p:nvSpPr>
          <p:cNvPr id="128"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29"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8720" cy="3727440"/>
          </a:xfrm>
          <a:prstGeom prst="rect">
            <a:avLst/>
          </a:prstGeom>
          <a:ln w="0">
            <a:noFill/>
          </a:ln>
        </p:spPr>
      </p:sp>
      <p:sp>
        <p:nvSpPr>
          <p:cNvPr id="131"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32"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20880" y="746280"/>
            <a:ext cx="4968720" cy="3727440"/>
          </a:xfrm>
          <a:prstGeom prst="rect">
            <a:avLst/>
          </a:prstGeom>
          <a:ln w="0">
            <a:noFill/>
          </a:ln>
        </p:spPr>
      </p:sp>
      <p:sp>
        <p:nvSpPr>
          <p:cNvPr id="134"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35"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8720" cy="3727440"/>
          </a:xfrm>
          <a:prstGeom prst="rect">
            <a:avLst/>
          </a:prstGeom>
          <a:ln w="0">
            <a:noFill/>
          </a:ln>
        </p:spPr>
      </p:sp>
      <p:sp>
        <p:nvSpPr>
          <p:cNvPr id="137"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38"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46265-A0BB-41B9-A62A-0F7A0D409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1775E-C13C-4477-850A-07BA8C6E7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3936E-B028-4F49-94C4-037D4F2E8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21AA4-199A-4BD7-BA7B-FE398AE3C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B3EE35-9548-462E-B314-4625AC443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219B6-E530-47B9-BA88-0F10D60B5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DCA57-2A9F-4C1B-8612-85EBD97A1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72BB7-B2D3-47B5-835B-651092B5E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ADBCE-99F1-4BF3-AE2D-F032E3CBC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5FC96-847C-4F87-9345-DE2E4DCA9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7CD8A-C201-4CBF-810F-970E41331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57E5F-7A57-4308-BF06-2F56DEC75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C955F-B69C-4319-86FC-33D49847B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0FEC5-7EBE-4AC3-9F30-94F969B6C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62F7A-359B-4B22-9028-C3BC009A4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95BAD-2EA0-4A2B-97CE-57EACB7BE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84D041-6788-4555-9CA3-5C3B731380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52854-0A7D-4DD1-99A1-D5E3F981D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85898-3EAA-4522-BCAB-A44B7FCA2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283BA-0E07-42AF-8BE0-8960F5D7E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DD70A-7DCF-42FE-A289-DAD40B5DB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16625-DCF5-4C71-90F5-B88DC9EA6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14A31-88B6-4607-9179-F433AF983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EF62C-9A4B-4423-8EC8-83C4522B2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2482-C6E0-47DF-8F7E-39BDC58C82CA}"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magine 3" descr="fascia-inferiore.jpg"/>
          <p:cNvPicPr/>
          <p:nvPr/>
        </p:nvPicPr>
        <p:blipFill>
          <a:blip r:embed="rId2"/>
          <a:stretch/>
        </p:blipFill>
        <p:spPr>
          <a:xfrm>
            <a:off x="-57240" y="6477120"/>
            <a:ext cx="9232920" cy="4064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325AE-CB2E-4A2E-B69A-AE3A9F42A4F5}"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CasellaDiTesto 5"/>
          <p:cNvSpPr/>
          <p:nvPr/>
        </p:nvSpPr>
        <p:spPr>
          <a:xfrm>
            <a:off x="900000" y="692280"/>
            <a:ext cx="7201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1. La Società/ L’Ide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Il progetto d'impresa: breve descrizione del business, storia aziendale, mercato di riferimento e prospettive, vantaggi competitivi, caratteristiche economiche, settore di merceologico di riferimento principale, data di creazione, numero di soci, sede e la forma giuridica scelta. Indicare anche se l'idea di impresa ha già ricevuto riconoscimenti. </a:t>
            </a:r>
            <a:endParaRPr b="0" lang="en-US" sz="1800" spc="-1" strike="noStrike">
              <a:solidFill>
                <a:srgbClr val="000000"/>
              </a:solidFill>
              <a:latin typeface="Arial"/>
            </a:endParaRPr>
          </a:p>
        </p:txBody>
      </p:sp>
      <p:sp>
        <p:nvSpPr>
          <p:cNvPr id="91" name="CasellaDiTesto 6"/>
          <p:cNvSpPr/>
          <p:nvPr/>
        </p:nvSpPr>
        <p:spPr>
          <a:xfrm>
            <a:off x="888840" y="2852640"/>
            <a:ext cx="7212240" cy="28371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t;max 3500 caratteri, spazi compres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CasellaDiTesto 5"/>
          <p:cNvSpPr/>
          <p:nvPr/>
        </p:nvSpPr>
        <p:spPr>
          <a:xfrm>
            <a:off x="888840" y="666720"/>
            <a:ext cx="7199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10. Strate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Ipotizzare potenziali investitori interessati (eventuali contatto con soggetti individuati es. reti di business angels, ecc..) per prevedere un eventuale possibile aumento del capitale soci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CasellaDiTesto 6"/>
          <p:cNvSpPr/>
          <p:nvPr/>
        </p:nvSpPr>
        <p:spPr>
          <a:xfrm>
            <a:off x="888840" y="2637000"/>
            <a:ext cx="7212240" cy="28371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t;max 3500 caratteri, spazi compres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CasellaDiTesto 5"/>
          <p:cNvSpPr/>
          <p:nvPr/>
        </p:nvSpPr>
        <p:spPr>
          <a:xfrm>
            <a:off x="878040" y="663480"/>
            <a:ext cx="720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2. Il Te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Evidenziare le diverse competenze e il background culturale dei promotori dell'impresa, mettere in evidenza cosa li accomuna, spiegare l'origine della idea, evidenziare le motivazioni che hanno portato alla decisione di avviare l'impresa. Descrivere l’organizzazione del lavoro, l’evoluzione delle risorse umane, le funzioni esternalizz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 </a:t>
            </a:r>
            <a:endParaRPr b="0" lang="en-US" sz="1800" spc="-1" strike="noStrike">
              <a:solidFill>
                <a:srgbClr val="000000"/>
              </a:solidFill>
              <a:latin typeface="Arial"/>
            </a:endParaRPr>
          </a:p>
        </p:txBody>
      </p:sp>
      <p:sp>
        <p:nvSpPr>
          <p:cNvPr id="93" name="CasellaDiTesto 6"/>
          <p:cNvSpPr/>
          <p:nvPr/>
        </p:nvSpPr>
        <p:spPr>
          <a:xfrm>
            <a:off x="868320" y="2492280"/>
            <a:ext cx="7210440" cy="28371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t;max 3500 caratteri, spazi compres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CasellaDiTesto 5"/>
          <p:cNvSpPr/>
          <p:nvPr/>
        </p:nvSpPr>
        <p:spPr>
          <a:xfrm>
            <a:off x="900000" y="692280"/>
            <a:ext cx="7201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3. Descrizione dei prodotti/serviz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Nome, descrizione da un punto di vista tecnico e commerciale, settori di applicazione, componenti di innovazione e di differenziazione, grado di sviluppo, gamma (eventuali varianti, versioni, opzioni diverse da proporre ai clienti), servizi collegati, servizi complementari e accessori, fornitori (anche rispetto ai componenti), macchinari ed attrezzature in u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  </a:t>
            </a:r>
            <a:endParaRPr b="0" lang="en-US" sz="1800" spc="-1" strike="noStrike">
              <a:solidFill>
                <a:srgbClr val="000000"/>
              </a:solidFill>
              <a:latin typeface="Arial"/>
            </a:endParaRPr>
          </a:p>
        </p:txBody>
      </p:sp>
      <p:sp>
        <p:nvSpPr>
          <p:cNvPr id="95" name="CasellaDiTesto 6"/>
          <p:cNvSpPr/>
          <p:nvPr/>
        </p:nvSpPr>
        <p:spPr>
          <a:xfrm>
            <a:off x="888840" y="2637000"/>
            <a:ext cx="7212240" cy="28371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t;max 3500 caratteri, spazi compres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CasellaDiTesto 5"/>
          <p:cNvSpPr/>
          <p:nvPr/>
        </p:nvSpPr>
        <p:spPr>
          <a:xfrm>
            <a:off x="900000" y="692280"/>
            <a:ext cx="720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4. Evoluzione e scena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Indicare quali evoluzioni sono già previste per il prodotto/ servizio (nuova tecnologia, applicazioni in altri settori, nuove versioni, ecc. ).</a:t>
            </a:r>
            <a:endParaRPr b="0" lang="en-US" sz="1800" spc="-1" strike="noStrike">
              <a:solidFill>
                <a:srgbClr val="000000"/>
              </a:solidFill>
              <a:latin typeface="Arial"/>
            </a:endParaRPr>
          </a:p>
        </p:txBody>
      </p:sp>
      <p:graphicFrame>
        <p:nvGraphicFramePr>
          <p:cNvPr id="97" name=""/>
          <p:cNvGraphicFramePr/>
          <p:nvPr/>
        </p:nvGraphicFramePr>
        <p:xfrm>
          <a:off x="826920" y="1916280"/>
          <a:ext cx="7274160" cy="3744720"/>
        </p:xfrm>
        <a:graphic>
          <a:graphicData uri="http://schemas.openxmlformats.org/drawingml/2006/table">
            <a:tbl>
              <a:tblPr/>
              <a:tblGrid>
                <a:gridCol w="1212840"/>
                <a:gridCol w="1211400"/>
                <a:gridCol w="1212840"/>
                <a:gridCol w="1212840"/>
                <a:gridCol w="1211400"/>
                <a:gridCol w="1212840"/>
              </a:tblGrid>
              <a:tr h="67932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Mese 0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stato attuale)</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Mese 6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Mese 12</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Mese 24</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Mese 36</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852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Numero prodotti/</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servizi offerti dall'impresa</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96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Prodotto 1: Grado di sviluppo</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78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Prodotto 2: Grado di sviluppo</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932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Prodotto 3: Grado di sviluppo</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8" name="Rectangle 1"/>
          <p:cNvSpPr/>
          <p:nvPr/>
        </p:nvSpPr>
        <p:spPr>
          <a:xfrm>
            <a:off x="5992920" y="22269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CasellaDiTesto 5"/>
          <p:cNvSpPr/>
          <p:nvPr/>
        </p:nvSpPr>
        <p:spPr>
          <a:xfrm>
            <a:off x="468360" y="549360"/>
            <a:ext cx="82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5. Individuazione del mercato potenzi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Indicare settore di riferimento, dimensione, fase di sviluppo, barriere all'entrata e allo sviluppo, fattori esterni (Analisi SWOT). Descrivere il mercato di riferimento attuale e il mercato target. Identificare i clienti attuali, i potenziali clienti, i concorrenti, ecc... </a:t>
            </a:r>
            <a:endParaRPr b="0" lang="en-US" sz="1800" spc="-1" strike="noStrike">
              <a:solidFill>
                <a:srgbClr val="000000"/>
              </a:solidFill>
              <a:latin typeface="Arial"/>
            </a:endParaRPr>
          </a:p>
        </p:txBody>
      </p:sp>
      <p:sp>
        <p:nvSpPr>
          <p:cNvPr id="100" name="CasellaDiTesto 6"/>
          <p:cNvSpPr/>
          <p:nvPr/>
        </p:nvSpPr>
        <p:spPr>
          <a:xfrm>
            <a:off x="468360" y="2579760"/>
            <a:ext cx="8136000" cy="28371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t;max 3500 caratteri, spazi compres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CasellaDiTesto 5"/>
          <p:cNvSpPr/>
          <p:nvPr/>
        </p:nvSpPr>
        <p:spPr>
          <a:xfrm>
            <a:off x="900000" y="692280"/>
            <a:ext cx="7201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6. Strategia di Marketing e Promoz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4P: Product-Price-Place-Promotion. Descrivere le strategie di promozione e vendita (assistenza, canali distributivi, condizioni di  pagamento, politiche di prezzo), immag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CasellaDiTesto 6"/>
          <p:cNvSpPr/>
          <p:nvPr/>
        </p:nvSpPr>
        <p:spPr>
          <a:xfrm>
            <a:off x="888840" y="2637000"/>
            <a:ext cx="7212240" cy="28371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t;max 3500 caratteri, spazi compres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CasellaDiTesto 5"/>
          <p:cNvSpPr/>
          <p:nvPr/>
        </p:nvSpPr>
        <p:spPr>
          <a:xfrm>
            <a:off x="900000" y="69228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7. Analisi della concorrenz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Per la impresa nel suo complesso, ed eventualmente per segmenti, identificare le principali categorie di concorrenti, diretti e indiret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CasellaDiTesto 6"/>
          <p:cNvSpPr/>
          <p:nvPr/>
        </p:nvSpPr>
        <p:spPr>
          <a:xfrm>
            <a:off x="888840" y="2637000"/>
            <a:ext cx="7212240" cy="28371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t;max 3500 caratteri, spazi compres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CasellaDiTesto 5"/>
          <p:cNvSpPr/>
          <p:nvPr/>
        </p:nvSpPr>
        <p:spPr>
          <a:xfrm>
            <a:off x="755640" y="37620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8. Programma d’invest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Ipotesi di allocazione per voci di spese delle risorse finanziarie da destinare all’avvio dell’attività d’impre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 name=""/>
          <p:cNvGraphicFramePr/>
          <p:nvPr/>
        </p:nvGraphicFramePr>
        <p:xfrm>
          <a:off x="720720" y="1576440"/>
          <a:ext cx="7705800" cy="4114800"/>
        </p:xfrm>
        <a:graphic>
          <a:graphicData uri="http://schemas.openxmlformats.org/drawingml/2006/table">
            <a:tbl>
              <a:tblPr/>
              <a:tblGrid>
                <a:gridCol w="3597120"/>
                <a:gridCol w="1274760"/>
                <a:gridCol w="920880"/>
                <a:gridCol w="992160"/>
                <a:gridCol w="920880"/>
              </a:tblGrid>
              <a:tr h="57312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Mese 0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stato attuale)</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Mese 6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Mese 12</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Mese 24</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Impiantistica generale e costi assimilati destinati all’avvio/ rilancio dell’attività d’impre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3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Acquisto di beni strumentali nuovi di fabbrica o usati finalizzati all’avvio/ rilancio dell’attività quali attrezzature, macchinari, impianti, arredi;</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1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Spese di comunicazione connesse alle attività di avvio/ rilancio d’impresa, comprese la progettazione e realizzazione di un sito internet aziendale;</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Spese di personale, fino ad un massimo del 50% del totale dell’investimento ammissibile, compreso il personale a tempo determinato, part time e le collaborazion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3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Acquisto di automezzi nuovi di fabbrica e strettamente necessari allo svolgimento del ciclo produttivo (sono esclusi mezzi per l’esercizio di attività di autotrasporto merci c/to terzi);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Acquisto di marchi, brevetti, licenze di produzione, di know how, di conoscenze tecniche non brevettate, licenze di software;</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CasellaDiTesto 5"/>
          <p:cNvSpPr/>
          <p:nvPr/>
        </p:nvSpPr>
        <p:spPr>
          <a:xfrm>
            <a:off x="888840" y="666720"/>
            <a:ext cx="719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9. Finanziamen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Descrivere le modalità con le quali l'impresa potrebbe essere finanziata indicando il tipo di finanziamento eventualmente previsto</a:t>
            </a:r>
            <a:endParaRPr b="0" lang="en-US" sz="1800" spc="-1" strike="noStrike">
              <a:solidFill>
                <a:srgbClr val="000000"/>
              </a:solidFill>
              <a:latin typeface="Arial"/>
            </a:endParaRPr>
          </a:p>
        </p:txBody>
      </p:sp>
      <p:graphicFrame>
        <p:nvGraphicFramePr>
          <p:cNvPr id="108" name=""/>
          <p:cNvGraphicFramePr/>
          <p:nvPr/>
        </p:nvGraphicFramePr>
        <p:xfrm>
          <a:off x="888840" y="2104920"/>
          <a:ext cx="6491520" cy="3124440"/>
        </p:xfrm>
        <a:graphic>
          <a:graphicData uri="http://schemas.openxmlformats.org/drawingml/2006/table">
            <a:tbl>
              <a:tblPr/>
              <a:tblGrid>
                <a:gridCol w="2181240"/>
                <a:gridCol w="1040040"/>
                <a:gridCol w="1074600"/>
                <a:gridCol w="1098720"/>
                <a:gridCol w="1096920"/>
              </a:tblGrid>
              <a:tr h="446040">
                <a:tc gridSpan="5">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Finanziamenti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6400">
                <a:tc rowSpan="2">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Fonti di finanziamento</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Contributo ottenuto</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Contributo previsto</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6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Data</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Entità</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Data</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Entità</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74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60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60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640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09" name="Rectangle 1"/>
          <p:cNvSpPr/>
          <p:nvPr/>
        </p:nvSpPr>
        <p:spPr>
          <a:xfrm>
            <a:off x="5964480" y="292860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5T16:09:26Z</dcterms:created>
  <dc:creator>Tatiana Lo Martire</dc:creator>
  <dc:description/>
  <dc:language>en-US</dc:language>
  <cp:lastModifiedBy>Sebastiano Provenzano</cp:lastModifiedBy>
  <dcterms:modified xsi:type="dcterms:W3CDTF">2013-10-24T10:34:32Z</dcterms:modified>
  <cp:revision>25</cp:revision>
  <dc:subject/>
  <dc:title>Presentazione standard di PowerPoint</dc:title>
</cp:coreProperties>
</file>